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990-6A74-4BFE-9B79-129D7B15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C0D-ED97-4CEB-8A58-752E528B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AA5-8FB7-4A7C-B927-7E26F93A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7A2-5BE5-40B2-A4C5-437C4127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408-5F4F-4698-BC89-AC9623BF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156-8E86-4067-B9FA-6289710B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0C1-E51C-4308-A0EF-E7BB7F8F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5FE-48B4-4488-820E-8C6F934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8CB-BA6C-4F97-AF61-057EF292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96A-A064-4715-ADBA-E291727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BE2-0DF6-4D91-9C5B-45C477CE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F8F-A92D-4145-AE89-798A72C6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4FFA-FFEB-42A2-82FA-6E8948A63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5486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sor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er Incorpor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5" descr="http://www.vaughanpl.info/teenvortex/blog/wp-content/uploads/liger.jpg"/>
          <p:cNvPicPr/>
          <p:nvPr/>
        </p:nvPicPr>
        <p:blipFill>
          <a:blip r:embed="rId3"/>
          <a:stretch/>
        </p:blipFill>
        <p:spPr>
          <a:xfrm>
            <a:off x="533520" y="45720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13360"/>
            <a:ext cx="1905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914400" y="1295280"/>
            <a:ext cx="7162920" cy="4038840"/>
          </a:xfrm>
          <a:prstGeom prst="wedgeRectCallout">
            <a:avLst>
              <a:gd name="adj1" fmla="val -50083"/>
              <a:gd name="adj2" fmla="val 1772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most popular 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38080" y="1522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083"/>
              <a:gd name="adj2" fmla="val 145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fourth large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land in the wor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027120"/>
            <a:ext cx="16002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50208"/>
              <a:gd name="adj2" fmla="val 156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anguag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oken in 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066680" y="914400"/>
            <a:ext cx="7162920" cy="4038480"/>
          </a:xfrm>
          <a:prstGeom prst="wedgeRectCallout">
            <a:avLst>
              <a:gd name="adj1" fmla="val -50083"/>
              <a:gd name="adj2" fmla="val 1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hardest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find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p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83"/>
              <a:gd name="adj2" fmla="val 17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tead of playing base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.African’s pla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621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ck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53"/>
              <a:gd name="adj2" fmla="val 1818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country has the 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tensive river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5951520"/>
            <a:ext cx="16765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53"/>
              <a:gd name="adj2" fmla="val 2021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astal Africa eats m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91440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6"/>
          <p:cNvSpPr/>
          <p:nvPr/>
        </p:nvSpPr>
        <p:spPr>
          <a:xfrm flipH="1" flipV="1">
            <a:off x="6552720" y="6091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49828"/>
              <a:gd name="adj2" fmla="val 20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smarte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in 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38080" y="1219320"/>
            <a:ext cx="7162920" cy="4038480"/>
          </a:xfrm>
          <a:prstGeom prst="wedgeRectCallout">
            <a:avLst>
              <a:gd name="adj1" fmla="val -49953"/>
              <a:gd name="adj2" fmla="val 1999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tead of playing footb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.African’s pla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018"/>
              <a:gd name="adj2" fmla="val 127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country has root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jor rivers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0"/>
            <a:ext cx="175248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362320" y="0"/>
            <a:ext cx="182880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4724280" y="0"/>
            <a:ext cx="190512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7010280" y="0"/>
            <a:ext cx="175284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6">
            <a:hlinkClick r:id="rId30" action="ppaction://hlinksldjump"/>
          </p:cNvPr>
          <p:cNvSpPr/>
          <p:nvPr/>
        </p:nvSpPr>
        <p:spPr>
          <a:xfrm>
            <a:off x="7162920" y="12193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447920" y="5943600"/>
            <a:ext cx="75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-2362320" y="304812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828"/>
              <a:gd name="adj2" fmla="val 211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most important 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any Afric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1440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53"/>
              <a:gd name="adj2" fmla="val 181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nimal migrates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gest herd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49824"/>
              <a:gd name="adj2" fmla="val 1795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5988960"/>
            <a:ext cx="25909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49828"/>
              <a:gd name="adj2" fmla="val 2248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iggest country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5988960"/>
            <a:ext cx="2438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53"/>
              <a:gd name="adj2" fmla="val 1818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nimal is prize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y African trib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13360"/>
            <a:ext cx="1905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50083"/>
              <a:gd name="adj2" fmla="val 18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fastest animal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et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13360"/>
            <a:ext cx="1828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53"/>
              <a:gd name="adj2" fmla="val 2112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at African country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occer world cup held i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13360"/>
            <a:ext cx="20574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208"/>
              <a:gd name="adj2" fmla="val 1795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countries name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ion mountai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rra Le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3002760"/>
            <a:ext cx="457200" cy="38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828"/>
              <a:gd name="adj2" fmla="val 156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s are known for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ch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2193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s and cr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83"/>
              <a:gd name="adj2" fmla="val 21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nimal has the grea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te force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 Jenn Clear</cp:lastModifiedBy>
  <cp:lastPrinted>2001-01-31T16:21:13Z</cp:lastPrinted>
  <dcterms:modified xsi:type="dcterms:W3CDTF">2010-11-01T23:14:20Z</dcterms:modified>
  <cp:revision>71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